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BB95-D4B0-42F3-98CB-5CF10225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D8A2-5FB3-4515-BBF3-C069874C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61E6-2E4B-43DB-9127-5DD6CC2A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19D-CC88-429A-BDBE-B67597DF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A87B-B9C1-4D64-B001-18CFF967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8071-E9F8-4A3C-81A4-590DB103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7F4-98CC-46A9-88DB-EF76A78B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6CEE-2EC4-4604-85AD-03FC3B47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4FD0-DFD3-47F4-8CCE-E3AF0939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1706-39ED-43B8-8AFE-F82BB129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F6F-19DA-4930-BE36-D072D830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4337-CAA6-4457-9E99-D83876CA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23BD-2BAC-4C11-A26B-60FA26B2D006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76720" y="0"/>
            <a:ext cx="5867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 u="sng">
                <a:solidFill>
                  <a:srgbClr val="ffff00"/>
                </a:solidFill>
                <a:uFillTx/>
                <a:latin typeface="Times New Roman"/>
                <a:cs typeface="Diwany6 Normal"/>
              </a:rPr>
              <a:t>نشيد الدخول: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ar-SA" sz="8000" spc="-1" strike="noStrike">
                <a:solidFill>
                  <a:srgbClr val="ffff00"/>
                </a:solidFill>
                <a:latin typeface="Tahoma"/>
                <a:cs typeface="????Boutros Rokaa"/>
              </a:rPr>
              <a:t>ربي أن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00"/>
                </a:solidFill>
                <a:latin typeface="Tahoma"/>
                <a:cs typeface="????Boutros Rokaa"/>
              </a:rPr>
              <a:t>طر يق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581280" y="2781360"/>
            <a:ext cx="55627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أنت طريق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في معاثر الحيا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أنت رفيق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عند ساعة الـمما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5280" y="1989000"/>
            <a:ext cx="55087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وحدَك دعو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وحدكَ رجو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غايةُ الـمنى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صدرُ اله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35280" y="1989000"/>
            <a:ext cx="55087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نارٌ لقلب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أيضاً نسي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هديٌ لدربي أنتَ فجرِيَ الوسي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5280" y="1989000"/>
            <a:ext cx="55087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وحدَك دعو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وحدكَ رجو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غايةُ الـمنى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صدرُ اله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360" y="35002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ahoma"/>
                <a:cs typeface="Akhbar MT"/>
              </a:rPr>
              <a:t>أُعضدِ الـموجعينَ ساعدِ البائسي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920" y="4005360"/>
            <a:ext cx="9144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ahoma"/>
                <a:cs typeface="Akhbar MT"/>
              </a:rPr>
              <a:t>أشبعِ الجائعينَ أرجِعِ الخاطئي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35280" y="1989000"/>
            <a:ext cx="55087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وحدَك دعو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وحدكَ رجو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غايةُ الـمنى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صدرُ اله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1:01:34Z</dcterms:created>
  <dc:creator>Charbel Azar</dc:creator>
  <dc:description/>
  <dc:language>en-US</dc:language>
  <cp:lastModifiedBy>ف</cp:lastModifiedBy>
  <dcterms:modified xsi:type="dcterms:W3CDTF">2006-11-27T20:51:13Z</dcterms:modified>
  <cp:revision>4</cp:revision>
  <dc:subject/>
  <dc:title>PowerPoint Presentation</dc:title>
</cp:coreProperties>
</file>